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260-0DC1-40D9-AFEC-5CB4DEC6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287D-4B81-42DF-9E55-4BA69078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CFC-F056-47EC-8584-94693B8C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AD13-62DE-4960-9859-331366DF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75E9-5334-45A2-B8C6-1C59B8D2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7E3E-1BD3-444F-B57C-45B97203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91DC-D52A-4004-8110-6087361B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8EE5-30CC-4315-990D-9DEE4F93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33F0-CDFB-4C6D-A430-0894B432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2571-2D8F-465C-A6B1-241DB594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D5B2-B7C4-4D86-9A38-FDB68626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3C9-9B7C-460E-ABD1-84A21F03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9D47-7E18-4316-BFDA-7DA4CDA8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B456-E25F-416D-A4CC-0C1AD5FA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8B83-C89D-4478-B13E-7811A447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95E3-E6A0-4B1C-90CA-C8FFBCB7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584F-9D6A-4592-A54F-DCCC3E98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99B-D5AD-4042-A77A-63CBAA02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310D-EEBE-4DF6-82F4-C7E47CD9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D3A-5895-4FC4-B97D-EFBF17DB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5A71-6B8F-40AA-9D31-3A15DCF5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2F3-FD32-471F-A1B2-57387C93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333D-E8F4-4EBF-BC2E-8E91B601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63E1-0F73-4454-AA81-1934A045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0665-95F7-4BAA-B93D-BCD801EAE04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72D3-4E86-4A67-BBF8-791E6DB74AC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o is this man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60" y="555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895320"/>
            <a:ext cx="66978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1956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hrushchev has outmaneuvered his rivals and becomes effectively the leader of the USS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913280" y="1600200"/>
            <a:ext cx="351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His Actions &amp; Polic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-Stalinis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ret speech given in 195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izes Stalin and accuses him of crimes against the Communist Pa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es some of Stalin’s cr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eting with a mixture of shock, disbelief and relief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913280" y="1600200"/>
            <a:ext cx="351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Tha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ly greater openness, freedom and less censo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n’t extend to the Eastern European countries under USSR control: these were kept in a tight gr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53000" y="2292480"/>
            <a:ext cx="40338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gricultural Refor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hrushchev was an ex-peasa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eally focused on the problems in agriculture in the USS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xed 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53000" y="2467080"/>
            <a:ext cx="40338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rgin Land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SSR had millions of square kilometers of unused 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 was to bring this land into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pecially in what is now known as Kazakhst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53000" y="1882800"/>
            <a:ext cx="4033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itial succes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beginning grains harvests up spectacular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53000" y="1882800"/>
            <a:ext cx="4033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etback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 the land was often unsuitable for the crops used and the amount they produced reduced rapi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53000" y="1882800"/>
            <a:ext cx="4033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dust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focus on consumer g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uccesses, but still far behind the wester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53000" y="2467080"/>
            <a:ext cx="40338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Space Ra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viet Union took the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human space flight in 1961 (first dog as well before this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osted prestige of the USSR, seemed to be ‘beating’ the U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53000" y="2152800"/>
            <a:ext cx="40338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ikita Khrushchev Lesson Objectiv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o identify the key features of Destalinis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o produce a clear definition of the concept Destalinis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o establish why Khrushchev denounced Stal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o discuss reasons why Khrushchev emerged as leader of the Soviet Union after the death of Stalin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ations with Chin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nese Communist Party disagreed with Khrushchev’s criticism of Sta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rushchev refused to help China develop its own Nuclear Bomb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997520" y="1600200"/>
            <a:ext cx="33433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astern Europ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s under USSR control thought that ‘De-Stalinisation’ meant freedom for them to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rushchev crushed rebellions with the Red Ar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t the Berlin W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53000" y="2141640"/>
            <a:ext cx="403380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ownfall - removed from power 196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al Style: banging shoe on the table during UN meeting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an Missiles crisis: had to back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ndling of Eastern Eur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53000" y="2500200"/>
            <a:ext cx="4033800" cy="2730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04840" y="936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 his own w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old and tired. I’ve done the main thing. Relations among us, the style of leadership, has changed drastically…The fear’s gone. That’s my contribution.” Khrushch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You need to know about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e to Power 1953-5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-stali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al and Industrial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fall including Eastern Europe and foreign aff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53000" y="1959120"/>
            <a:ext cx="403380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hrushchev’s rise to pow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i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led powerful NKV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liked by army as he helped purge it in the late 193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n’t fight in the ‘Great Patriotic War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happened to Beria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viet Commander in Chief (head of the army) Marshall Zhukov admired Khrushche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hrushchev was able to get the support of the a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rounded his house, arrested him, put on trial and sho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as the exception rather than the rule: from now on leaders tended to be demoted or removed from power rather than shot from this point forward, but Beria was never likely to ‘go quietly’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lenko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viet ‘Premier’ (Prime minister/head of governmen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le organiser and began some of the relaxation in terror and improvement in relations with the outsid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Khrushchev controlled the PARTY and had a forceful person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nkov was undermined by Khrushchev who travelled the country criticising the government (and therefore Malenko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55 Malenkov resigns and gives up any hope of becoming the next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aced by Bulganin for a time, but he is very much dominated by Khrushche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hrushche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led the Pa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r with the army and Zhukov in partic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ceful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ed the country wid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late 1955 / early 56 we can really talk about Khrushchev as the ‘leader’ of the USS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Destalinisatio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03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ret Spe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932360" y="4365720"/>
            <a:ext cx="38671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t First, an overview of Khrushchev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rough mindmap with the headings: De-stalinisation &amp; the Thaw, Agriculture, Industrialisation, Rise to Power, Foreign Policy &amp; Fall from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rough notes as you watch the next few slides, you will be translating them into neat notes later after we have finished the un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you leave space to add more rough notes l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im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R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utality / Vio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lerance towards colleag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al and physical annihi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legal means illeg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gmatized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h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use of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2381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ikita Khrushchev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t facts that you need to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13280" y="1600200"/>
            <a:ext cx="351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alin dies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lin died March 195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riod 1953-56 sees a ‘collective leadership’ of 10, from which emerged 3 key rivals for power: Khrushchev, Beria &amp; Malenk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53000" y="1954080"/>
            <a:ext cx="4033800" cy="382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2286000"/>
            <a:ext cx="1403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contende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53-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hrushche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retary of of the Central Committee of the Communist Party, he has the power to appoint large numbers of committee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13280" y="1600200"/>
            <a:ext cx="351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lenko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998960" y="1600200"/>
            <a:ext cx="3340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er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ster of Internal Affairs. Control of the security po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02280" y="1600200"/>
            <a:ext cx="3132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8-02-21T04:34:55Z</dcterms:modified>
  <cp:revision>9</cp:revision>
  <dc:subject/>
  <dc:title> Who is this man?</dc:title>
</cp:coreProperties>
</file>